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1DD1-43D6-4FA1-A7FC-37E8E84AF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AD79-C0AE-49ED-ABA7-EBC67C8DB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DD8E-40CC-4A77-8FB6-68CD12593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C191-7E27-431C-8E69-FCD2330BE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E8C47-0F52-448E-A8A4-00B1D735B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389D4-0B7E-473C-827D-8C51F219D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E51D9-5E56-4AE8-9F85-80A3CB737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323D6-14EE-4595-BF8A-E736413E1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DB7F0-6047-4C08-8C81-9A007BFA9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56A48-A279-4A07-9C6C-3BE215082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AFD02-BC21-4E7F-A9DE-6F45894D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284E-7C0E-45F0-B715-A32AF542F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B960F-1C91-4445-9932-28E436A3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16902-F1CC-442D-A510-84CFB5BD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0BCAB-CE19-4785-AE67-888FD09E5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0E5DA-9AE5-43DE-A14B-00B375B79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72791-F812-4AD8-B000-1FE96D044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1268-FE38-4090-901D-4D3ED88D7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DE77-FE68-47E2-9EC4-3D90BCE0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EF23-88AF-48E3-A784-B92010685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253D-823C-41BF-9D48-3FBBAD79E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B590-569C-46A0-9D9D-421B590D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C70B-6899-4C24-9641-3DF2148A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CC81-4D14-4543-8CA5-DE72FA76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BB645-98DD-460C-82A9-85DC5B96EE8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4D013-DDD1-4283-818F-E8B64FBACBA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006633"/>
                </a:solidFill>
                <a:latin typeface="Garamond"/>
              </a:rPr>
              <a:t>Cocina Latina</a:t>
            </a:r>
            <a:endParaRPr b="0" lang="en-US" sz="6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s Eaten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nish-Speaking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Tapa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name for small plates, almost like an appetiz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pas can be hot or co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pas are meant to be shared with a group (one tapa can feed 2-3 peop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pas come from Sp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tapas"/>
          <p:cNvPicPr/>
          <p:nvPr/>
        </p:nvPicPr>
        <p:blipFill>
          <a:blip r:embed="rId1"/>
          <a:stretch/>
        </p:blipFill>
        <p:spPr>
          <a:xfrm>
            <a:off x="457200" y="1600200"/>
            <a:ext cx="40305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horiz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icy pork saus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orizo is eaten in Latin America and Sp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orizo can be put in breakfast, lunch or dinner dish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chorizo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Sopaipillas, Churros, etc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re are many names for this fried bread that is sprinkled with cinnamon and sug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ry similar to an elephant 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name and shape depends on what country it came fr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Sopaipillas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2096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chocolate-con-churros-una-de-las-consumiciones-tipicas-de-madrid"/>
          <p:cNvPicPr/>
          <p:nvPr/>
        </p:nvPicPr>
        <p:blipFill>
          <a:blip r:embed="rId2"/>
          <a:stretch/>
        </p:blipFill>
        <p:spPr>
          <a:xfrm>
            <a:off x="457200" y="3657600"/>
            <a:ext cx="403848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Now for some more </a:t>
            </a:r>
            <a:br>
              <a:rPr sz="5000"/>
            </a:b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“adventurous” items…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hem if you dare.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Maté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té is made like hot tea, with yerba maté leaves and hot wa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té is drunk in the south of South America (Argentina, Bolivia, Paraguay, and Urugua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yerbacup"/>
          <p:cNvPicPr/>
          <p:nvPr/>
        </p:nvPicPr>
        <p:blipFill>
          <a:blip r:embed="rId1"/>
          <a:stretch/>
        </p:blipFill>
        <p:spPr>
          <a:xfrm>
            <a:off x="457200" y="1523880"/>
            <a:ext cx="4038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Nopalit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ves from the prickly pear cactus pla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rickly stems 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alito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are cut off, and the leaves are boil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palitos can be put into salad (shown), eggs, or sou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nopalitos%20salad"/>
          <p:cNvPicPr/>
          <p:nvPr/>
        </p:nvPicPr>
        <p:blipFill>
          <a:blip r:embed="rId1"/>
          <a:stretch/>
        </p:blipFill>
        <p:spPr>
          <a:xfrm>
            <a:off x="4648320" y="2743200"/>
            <a:ext cx="4038480" cy="33526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1" descr="nopal4"/>
          <p:cNvPicPr/>
          <p:nvPr/>
        </p:nvPicPr>
        <p:blipFill>
          <a:blip r:embed="rId2"/>
          <a:stretch/>
        </p:blipFill>
        <p:spPr>
          <a:xfrm>
            <a:off x="4648320" y="228600"/>
            <a:ext cx="407664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hapulin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asshopper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are cooked on a clay surface with garlic and lemon ju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are sometimes sprinkled with ch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pulines are eaten in Mex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chapulines4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ocina Latina (Latin Cuisine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tin cuisine is influenced by the native tribes and the explorers who traveled to these countries hundreds of years ago – Asia, Africa, Euro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tin cuisine uses materials that are plentiful in these areas, like fruits, vegetables, and seafood from the oce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y dishes in latin cuisine are spi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y dishes in latin cuisine are very similar from another country, but are given another na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Gazpach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azpacho is a cold so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azpacho is tomato-based, but has other vegetables in 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azpacho is eaten in Spain and Latin Amer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Gazpacho%20graphic%20big"/>
          <p:cNvPicPr/>
          <p:nvPr/>
        </p:nvPicPr>
        <p:blipFill>
          <a:blip r:embed="rId1"/>
          <a:stretch/>
        </p:blipFill>
        <p:spPr>
          <a:xfrm>
            <a:off x="4572000" y="762120"/>
            <a:ext cx="4213080" cy="2971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gazpacho2"/>
          <p:cNvPicPr/>
          <p:nvPr/>
        </p:nvPicPr>
        <p:blipFill>
          <a:blip r:embed="rId2"/>
          <a:stretch/>
        </p:blipFill>
        <p:spPr>
          <a:xfrm>
            <a:off x="4572000" y="3505320"/>
            <a:ext cx="4191120" cy="26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Empanada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panadas are a stuffed pa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panadas can be stuffed with anything from meat, cheese, or fru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panadas are eaten in Spain and Latin Amer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Spain they are circular, and in Latin and South America they are half-circl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3593481803_900681a6bc_b"/>
          <p:cNvPicPr/>
          <p:nvPr/>
        </p:nvPicPr>
        <p:blipFill>
          <a:blip r:embed="rId1"/>
          <a:stretch/>
        </p:blipFill>
        <p:spPr>
          <a:xfrm>
            <a:off x="304920" y="1523880"/>
            <a:ext cx="419076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Tama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males are eaten in Latin America, but are most popular in Mexic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male corn dough, called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mas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can be filled with meat, cheeses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males are wrapped in banana lea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asa and filling is cooked by steaming the dough and stuffing in the lea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tamales_piramide"/>
          <p:cNvPicPr/>
          <p:nvPr/>
        </p:nvPicPr>
        <p:blipFill>
          <a:blip r:embed="rId1"/>
          <a:stretch/>
        </p:blipFill>
        <p:spPr>
          <a:xfrm>
            <a:off x="4648320" y="1523880"/>
            <a:ext cx="40384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Paell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ella is a rice dish that has vegetables and seafood in 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ella is made in a pan called a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aelle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ella comes from Spain (from a region called Andaluci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paella"/>
          <p:cNvPicPr/>
          <p:nvPr/>
        </p:nvPicPr>
        <p:blipFill>
          <a:blip r:embed="rId1"/>
          <a:stretch/>
        </p:blipFill>
        <p:spPr>
          <a:xfrm>
            <a:off x="457200" y="1606680"/>
            <a:ext cx="403848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Molé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lé is a sauce that can be poured on many things, including me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lé has many different ingredients (almost 20!), including peppers and chocol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lé takes a long time to make, and is usually eaten only on special occa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lé comes from Mex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mole"/>
          <p:cNvPicPr/>
          <p:nvPr/>
        </p:nvPicPr>
        <p:blipFill>
          <a:blip r:embed="rId1"/>
          <a:stretch/>
        </p:blipFill>
        <p:spPr>
          <a:xfrm>
            <a:off x="4572000" y="1523880"/>
            <a:ext cx="4133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Arroz con Lech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roz con leche is a rice pudding that is made with milk and topped with cinnam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is eaten in Spain and Latin Amer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ARROZCONLECHE.jpg image by paranorah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Fl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lan is a custard with caram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lan is eaten in Latin America and in Sp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copy-of-4"/>
          <p:cNvPicPr/>
          <p:nvPr/>
        </p:nvPicPr>
        <p:blipFill>
          <a:blip r:embed="rId1"/>
          <a:stretch/>
        </p:blipFill>
        <p:spPr>
          <a:xfrm>
            <a:off x="4648320" y="1600200"/>
            <a:ext cx="4060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20:24:53Z</dcterms:created>
  <dc:creator>azeeff</dc:creator>
  <dc:description/>
  <dc:language>en-US</dc:language>
  <cp:lastModifiedBy>System User</cp:lastModifiedBy>
  <dcterms:modified xsi:type="dcterms:W3CDTF">2013-05-23T14:38:46Z</dcterms:modified>
  <cp:revision>6</cp:revision>
  <dc:subject/>
  <dc:title>Slide 1</dc:title>
</cp:coreProperties>
</file>